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95EC-4322-4E82-9727-E6EF83701B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1402-AA59-4561-A50B-B4418521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7766-7C60-43E9-90EA-45363576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69C6-82E4-43DC-B61C-D980F7A825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C099-38CB-4210-BCC4-EEE169B7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5643-011F-4250-9CF9-2482B5BF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4E558-13AD-4301-BDD6-EA8DFC4A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ED1A5-D16C-4089-8B65-338B2A74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88180-7C47-48B2-828F-3F92DC8C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5A19-E2BA-47CF-8111-CE295842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BE07-452B-4826-895F-23644CAB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1A891-4368-4D98-A0F2-D7202CD8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3ECC-3813-48C2-B9B5-117CBACD49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0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康复心理治疗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99840" y="2903760"/>
            <a:ext cx="235080" cy="27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084720" y="5661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sychotherap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又称精神治疗，是运用心理学方法，并通过言语和非言语方式与患者沟通，以帮助患者消除或减轻心理痛苦，改变不良认知和行为方式，促进患者康复和人格成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0" name="Picture 6" descr="心理产品宣传"/>
          <p:cNvPicPr/>
          <p:nvPr/>
        </p:nvPicPr>
        <p:blipFill>
          <a:blip r:embed="rId1"/>
          <a:stretch/>
        </p:blipFill>
        <p:spPr>
          <a:xfrm>
            <a:off x="468360" y="3103560"/>
            <a:ext cx="46432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196640"/>
            <a:ext cx="835992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95280" y="2729160"/>
            <a:ext cx="835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与辅助治疗者只有提供适当的支持与辅助，才能培养患者的希望，恢复其动机。这是心理治疗的前提，也是它的基本工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了解与领悟治疗者应帮助患者分析自己的内心，看透自己的潜意识，了解自己的心理、动机与行为的意义；并帮助患者找到解决困难、处理问题的方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611280" y="1484280"/>
            <a:ext cx="79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训练与学习治疗者可选择适当程度的训练，以转变患者的不良观念与态度，帮助患者建立一种比较积极的基本态度，以能适应人生的各个不同阶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促进自然痊愈与成长使患者把心理压力和挫折尽量减少，并能发挥自己的长处，慢慢去克服、解除困难，渡过危机和难关，或从过去的经验里学习新经验，从新知识里获取克服困难的要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治疗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者的条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55640" y="2499840"/>
            <a:ext cx="777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平衡的心理状态，愿意帮助别人，理解、同情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能尽量保持中立的立场，不把自己的私人情感、判断与利害掺杂进去，保持治疗的客观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敏锐的感觉和了解心理的能力，能及时发现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扎实的精神病理的知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丰富的人生经验和治疗经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要有健康良好的心理素质和态度。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治疗者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610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治疗方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支持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为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精神分析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认知疗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家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28:10Z</dcterms:modified>
  <cp:revision>92</cp:revision>
  <dc:subject/>
  <dc:title>内科护理学</dc:title>
</cp:coreProperties>
</file>